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9FA-DEA8-4495-86EE-4000680D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D2A-8AE4-4BC2-93B5-ADDD744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7538-90E3-47BD-876C-B01F31A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F4224-0525-4CC7-B364-58BCC67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F060D-1C26-4A69-8517-FDFFDFF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6EB3F-8FA1-43EF-BD46-7C52C88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C40A-3E17-4C6E-8C9E-EA343E7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B420-4973-4803-8243-7194643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16FD2-B02E-48B7-B862-07E97720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7E2A7-31B8-4CD4-9790-B5873179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3E823-840E-41F1-B7F6-8D1954E6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952B6-E2EF-48EE-8176-EB60B4FC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C7A-0BAB-4A71-B9E0-4492C159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D8C5-669D-45F0-9011-BD1EF23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6B25E-7818-44A8-B805-030D662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99780-E863-410A-914E-029674D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81088-3D64-4C7D-85C7-9C5C64E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A19E5-4546-4D75-BE52-EE72E8D2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1F7A7-5CC2-41B0-9CC5-0D6ECA62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2E5F8-0844-4069-8415-6271D79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7D312-3CD1-4C5E-9EE1-E579090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3151-1BD6-4028-8CF3-750DA98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29202-618C-46C2-8961-719F0B93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2E3-772E-42BA-B89B-3529BD9F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A6397-F336-478B-A769-109A4F5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96835-A45F-439F-B0EF-91044C81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1D2B8-8AAB-473C-AFB8-9BEF8BD4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7BC68-B9D3-4501-BD06-DF51CAC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BAB35-4F55-4C96-82C8-201A2E9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BA522-3574-4D67-AC23-34FFCD5D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C3744-641D-4EE1-8B4E-BCC6110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02864-1FA3-44DF-821C-77A24F2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9E3F8-14A6-4DE3-896C-F24FD0E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094D-825A-4D0D-B3C9-0A242B2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77BE-5CB2-45BF-8240-3B24F31E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6ED36-DDC2-4174-994A-C6C9F113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00E2-6661-4CB6-812F-F508E165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7EC62-1A46-4139-9C59-43BED549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3AF51-91C4-4FD1-8417-43393DB0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0CAE8-A0A3-43CF-98A5-2E965CB5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18FF6-6339-45E6-9F28-80826C9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2C74B-2F60-46ED-85A1-DDDF7CF3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2F7B8-19FC-4BD9-A3AC-F1725E0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4CD3D-EA71-49F6-BFB8-0059E61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29E0D-81AA-4F67-8488-38911AF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96C-B9AB-43C8-BDE4-9B827EB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3505E-BE2C-4E7A-AFCE-C84E88B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6DDFA-2911-4196-9D6E-8258848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902A6-6161-470B-AFFD-2230F270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1C60C-DCF6-4DCC-8963-F7775990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D7ED-F55B-4F8D-A9EE-D8A70A97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C0971-74CE-4941-A4A5-33BE66BE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0FA91-C9C4-453B-84F9-CDE6D15F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5FB51-EA9D-453F-9573-8F9DDC9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964A-DAC4-4D12-8550-ADA36AB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FA11E-EF71-4423-BF58-2D268D2D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888-D228-426E-9F80-303AF90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403BC-9848-4377-B488-1BACDEC7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5C418-6650-4CC1-A5CA-3F2E4EAF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E1C14-7E69-42D1-B96E-7D31E21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E8BAF-060D-42A3-9376-8B3C02A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1ED7E-5B9D-4D6F-ABC1-852F9B0F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EA6C8-0040-4F83-B50C-EA87B37F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60EE4-794C-4A23-92CB-D7F0F826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54834-320D-4CFE-8168-1353AD5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A97C9-CFCB-4454-BBF7-DD82263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A8D45-23CA-469D-9DA4-6E2CCE8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F1C6-4D59-4EB7-8915-1F0F4119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E6665-414B-45E0-B1B8-62DA4A8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61B31-B7C0-4F7D-9FB7-7CB54BD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24D61-656A-474C-A616-E3091FA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C4F6C-FE12-41B0-9590-1BD4347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2BFE7-299D-4720-8F08-35D266E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DBE10-259D-4C7F-84C9-181DE18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DA7A2-B967-43D0-B28E-25F91A6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EC4BD-0A0C-4919-B646-18BEE507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CEC27-43B5-44B0-B7B4-B73D6E8C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5F6B9-D58F-4ECD-8D7D-9AF853DD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B067-1911-408F-92AF-E41E811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7B822-9827-49BA-ABD5-07BED20F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6A4C6-30CB-47BB-9985-5A7FBDC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9A6CF-CEEC-4805-A40C-36EE152B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DD181-55D9-40A8-9276-C9657320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AF7D0-327B-4447-80D4-372EDFE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B7C9F-1530-4B45-A175-8598160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C6F8A-72BD-4F76-A6CE-E29C18A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CAB48-F924-4CC9-804A-F37C11B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BB79C-B7B5-48C4-8F1E-35658D3D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0420B-579D-4ACE-B508-4ECFFB68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93DD-E733-470A-8183-3A1B2F2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C89E3-371A-430C-95A3-5F9D59D1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76A1B-1C32-4E9F-8717-B5DA2724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2CF5A-664A-4937-911C-AAD2983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6B7DC-6140-49E5-8B4D-C2DE0BE8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C5A95-40B6-4A6B-9B9E-E85DA9D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74892-CE51-40DE-AF8A-7C222D7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A4D7A-8F0D-4F10-A32A-88AB501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E0748-33B1-40D1-BA38-6245A85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74942-63D3-4AC9-BF33-B2878C79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1509E-8BA6-4EDB-AC7E-CBE2DE9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DF1E-2280-4D6D-8A4A-E1A6CA0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16975-6847-4B37-BE07-C82AD70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39657-38F6-46D4-B253-87A12D2E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71C5A-F698-4F5F-ABF6-65AA0FE7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73519-B8E5-437F-BCD1-028E60BF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3B40E-B40D-4D2B-866C-434B2E5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BC0B5-3108-43BF-B855-FCBBC48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1B0CA-E82B-4BC2-9FD3-94C63212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520A6-627A-4723-8A1C-3AC1226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32092-1198-4D80-AAB5-8AA83A5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B1094-E113-4F1D-A72C-BD9F176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0DC-A6B8-4058-BE7A-C77C0562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6CA-FE1C-49F5-8D83-AC8AC48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6A1F3-C694-482C-A9ED-8C233A3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150EC-95D1-48CB-9266-B045B7A4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150DE-B877-4037-84B3-3AA7628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CDAFC-FD4C-4DD0-B56B-6AB41E1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6FE7F-BF78-4034-886A-F5F85566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FE7DD-5736-4E1F-8766-C4D4D6A8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CE846-EF0A-4F68-9470-83020AE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961DF-94C4-4856-A816-DDAC3CF1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9116A-147E-4653-BFDD-7C299B8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E03C1-E533-4DD7-A3B6-ADAC74F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67B-2568-4F8E-A2F5-B37924A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B7A48-1A88-49FE-8ED2-77C0FC9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4BDDF-54B1-4AF7-BBBA-135CA79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A5F6B-0B58-44B9-B896-9F8C75A7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0A410-6876-424C-9182-EEC1CBF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92995-04F8-49E7-85D2-013A38A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085B8-DF50-4FD9-AF54-E0098F45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CA39C-609A-4164-9B36-0B8B34AD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F93B9-6AD4-4336-85DD-FB0F1256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B8FED-AF2E-4825-ADDC-8A7F303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344F6-6074-4339-A1DA-E71516B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5F2-4C86-40C8-9F4F-1158B0C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1FE0D-5581-45CC-BAD4-A107B6E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CA2B7-98D3-428C-8C54-FB529FB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82313-363C-4EF4-ACAA-F3DF0C4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AABFB-B89F-42D5-8237-BCE90E9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192EF-5EF1-43AC-BE4A-642230F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D5BC9-5D4F-4269-A81F-DC01192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9D098-45CE-42F9-8AB6-05376406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BA90F-32A0-411F-A398-8731FE58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32AC0-00F8-46E4-867C-A0CA65FC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25F65-1FE2-413F-BBD2-42DA5427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715C-256B-47CE-8104-4997F0A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1755C-60C3-4D66-B301-D1D1AD9A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EE020-2E11-4760-92D2-2B70EE2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FCA3F-5AF9-4E3B-9EAD-BB91D09A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D857D-8B18-4EB5-9B02-9D1889EF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73591-87EF-4A98-A686-923E222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7132E-8762-42A8-AE79-B083CFE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918E4-D2AA-4801-96E9-C0C0A8E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AB4E8-8738-48B5-9285-B28C7E1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8DE7F-8A86-468F-9E6B-DF0D232C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B3198-1F6D-423F-A572-AE19B984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2578-FD5E-4393-8095-D3A71925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F6CF7-B1D0-4EAD-B135-2D9863F3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C4F54-4CE4-41CA-8153-94F9CAD6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E7921-4DCB-4B0A-A621-694A360D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34836-700D-462B-933A-1265875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C764E-4A31-486D-ABF6-B1F2A9FA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7D0B6-D964-441A-BB3C-81ED861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9D401-8595-4985-AEBB-75834CF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4116B-2875-4674-B57D-1AA7D25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ADB4E-2AD6-4894-8030-73DD0D3B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BDA2B-DDED-403A-8BAA-55492AF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94AE-71EB-4A0E-BD1F-0E63C423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E9FC1-3275-4512-92E7-EC4C095A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000E1-DE4C-4D04-8D01-7FD0EB02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D30C4-39BD-4FBE-B7C2-8199B1E0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38B2-ED97-4FFC-8FE3-93CB5088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C2A0-1FBE-4A5F-8ED0-73F1AB6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CCC2-4D1F-4EEB-A188-85AFDD2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1650-5CB1-4A88-B285-4B33D844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EF6-741A-4BAD-BFDA-975CE48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1974-7560-4D30-BB7D-62AC198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6D3C-493B-4635-96E0-744CC9E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6598-ED57-44C1-A9C1-A439090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0B25-E4BC-44D0-B354-6A05EEB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4921-5E1B-4FB7-9062-D6198445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137F-A013-456F-B5C7-F6899377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F423-158B-4B82-9155-7C04BF7A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8D2B-0CCA-4AE5-A5FF-CF46BF58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1D65-E7CF-428A-AFA1-E2753E7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85B3-16E4-42EC-9773-C72EA27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77F-4C00-4AB1-81DD-36D7E1A8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B618-345A-4925-A631-4489A532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7002-2952-4FD7-9FF0-4081CA5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E18E-3C69-413F-91EC-2E212B4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FD3E-57AB-42E8-ADFA-6C8D921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7D9C-964A-4375-8826-28A3C5F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D657-C896-4F59-9A4C-F4AD68F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C59F-2E2D-41DA-A54E-46835F74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545A-CDDB-44E1-A3F2-35DD2760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22792-768D-4F4D-AF32-105700EC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9F8B-84AC-49E5-8481-3ADF960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F6C-6580-4016-AA31-7A6C95C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A864-F15A-448C-B17C-6D0931B9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F57A-19A8-40D0-ABD6-CAA0E2D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D64D-230E-46BC-817F-C14B89F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4013-7829-497F-AC49-27029D1E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26D4-C090-486B-B4D4-E1780D1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AFB1-257F-4F06-896E-0A00E1F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27A6-9371-4F6A-8D99-F0D25A65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CE536-5E8D-4C9D-84B8-93EC41E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A7B1-4BAD-48BB-83A5-99B3A17F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E237-E023-4A92-A7C3-FE575753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32F-E5F9-4F09-8B47-7FF7927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78B4-D83B-43CE-850A-B5F8C151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D4A3-4A42-4002-9BE0-6F8448EA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EEF3-B75B-472E-B6B7-507BAB5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2BAE-6D98-4960-A445-5814733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F40C-E474-4F2E-BE75-3702E713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401E-B0E3-44D2-A95F-206E85E8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BDC6B-AB40-4186-AC96-665E698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9624-5D3D-4234-BD3F-62F94F8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9530-17E6-40A5-B5E6-34955FC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0D64-9B11-4C5E-9BF3-55372F2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3D2-050A-4FBD-95C2-7BB1C82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DB40-4A82-4EC7-8F40-33C6B83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9606-23FD-4253-8FFE-F272763B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91A2-A6E9-42A0-8EDA-B8E9FB49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1552-62E7-4088-B0BA-381D0112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FC69-FD6F-41C6-AD77-7E88ED31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3CF1-55AA-4EF6-B334-628B441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FE14-70B7-46B3-9C93-916683B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C557-22E2-4FE7-8DB4-9EA6AED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2777-B2FA-476E-9E3A-52B00A6F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79F37-576B-4E45-9C79-BEF0D81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326-9D0A-4119-96C8-A02264B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9039-1254-4C76-B571-4AA8489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25449-649D-461C-A68E-2483DB4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0D25-12AE-4A8E-AD87-5A4F9B5E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F7F4-BC1A-447C-A0F0-EE536C8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418D6-CB3D-465B-B6FD-3738299F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3B39-41CA-4683-81A3-D41AFC03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13FA-4FE6-4411-82A2-2D5731F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64554-10F3-43E1-B2B6-13C82BF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10E3A-2219-4B17-8666-210EF63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239A-58FA-459C-A67C-9E9C7650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085-F831-494D-814D-0920C36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25AC-0A62-4ACD-94B1-A63FC59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EF85B-D8CF-4AE9-B5C4-C232A65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967E-7211-4DBD-9033-51EA9E2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870C4-EAE8-44A7-A340-7D6EBE2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4908-C6A2-457A-B75E-2E4748C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13BD9-A43A-476E-8EA4-B5771559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A12FD-AAD0-4A65-A12F-658DAE3A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7AB56-B9A7-4968-A4EE-B7F26033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EFD0-B723-4C8D-95FE-36BE90B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42531-F928-4424-9C6F-98A877F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E8CC-C338-42F6-BC86-9EC6E5BC2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8D6-2901-4623-8C5E-962BC0D01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C04-394B-4F99-843E-F5EE38A43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19D-306B-4C63-BA08-549EFE124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3616-92DD-4FE5-B090-5189D0BA0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15F-7DA4-4D2F-BA27-92F49B791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8B8-DB36-4781-92E3-FAD02316A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B7A-B4AB-41AD-B217-F47E4AB8F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1EAF-099B-4696-98B1-13956FBDD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6A4C-EA4A-4E6F-AACA-79F7009CE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3D49-BB40-4DCB-AFBB-A70D0D9A0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351-E0BC-44A0-BCCF-03EDD4676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D8A6-D67A-4ECB-905F-299119CC9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3865-6606-47CE-A499-246606034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7B8-D14D-4061-9CB9-7EB5F4DB4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A37E-CB0E-4E9B-BB4C-2DFFE3F30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E2A2-2716-467E-94E9-8BA287722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509-121F-4E9B-8FAB-BA5E14AE1B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F8B-F588-4473-9641-264843578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CB1-1770-4081-B055-960251A71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563-81CF-463B-B226-103B581CF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E40D-B5F3-4126-8D4A-57846256E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12D-B31A-4D2F-A46C-F150FF9D3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140-06A6-4CBD-88D0-FE3F984AD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0CC-70B6-4E49-B99E-E544584C6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8C8E-B3CA-4736-89DF-1EB122009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AFDC-E9F3-4CBB-ACA0-5E0984F2BF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F870-E934-480A-BA7B-F96318800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B80-E6C2-461A-AC3C-A29B34C13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B4A-5624-4814-A051-CE9E83723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CC20-DCC1-4CE4-AD9E-52323C7EB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541E-0E8D-4773-A24B-F803445AB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829-805F-4908-90F1-5F876B4DD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E93-E3AF-4A46-AA6D-14B04327D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3C6-C3F3-47D1-BFAB-2B980D25C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BF3-C2DF-49A3-806E-2A2815C82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85E-DF45-4D7C-A9C3-7417AEBF0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F80-FE78-47E7-9071-832887E59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A3E-FCAF-41F4-AFD7-BD001E5D5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BA9F-4AF7-4D84-9A8A-326855028E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3081240"/>
            <a:ext cx="91440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85640" y="1162080"/>
            <a:ext cx="8172720" cy="45338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191440" cy="55342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928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214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38120" y="852480"/>
            <a:ext cx="8267760" cy="515304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857160" y="928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3214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85640" y="714240"/>
            <a:ext cx="8172720" cy="542952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2214720" y="128592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7023240" y="2414520"/>
            <a:ext cx="1334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3643200" y="3500280"/>
            <a:ext cx="15004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714840" y="4643280"/>
            <a:ext cx="92844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2071800" y="5214960"/>
            <a:ext cx="14284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90680" y="1162080"/>
            <a:ext cx="8162640" cy="45338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143000" y="24289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3786120" y="242892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550080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2643120" y="357192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5286240" y="357192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1486080" y="5189400"/>
            <a:ext cx="8712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2857680" y="521496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4651200" y="5183280"/>
            <a:ext cx="1563840" cy="395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71680" y="2043000"/>
            <a:ext cx="8001000" cy="277200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1928880" y="2643120"/>
            <a:ext cx="142884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4071960" y="2643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5143680" y="264312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1349280" y="3165480"/>
            <a:ext cx="722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2643120" y="321480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1285920" y="4286160"/>
            <a:ext cx="12142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3071880" y="428616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71600" y="1190520"/>
            <a:ext cx="8200800" cy="447696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3429000" y="3000240"/>
            <a:ext cx="4643280" cy="393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3071880" y="4643280"/>
            <a:ext cx="2928960" cy="420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500040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1654200" y="985680"/>
            <a:ext cx="2620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1928880" y="2643120"/>
            <a:ext cx="392904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5286240" y="3786120"/>
            <a:ext cx="2714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9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